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ROSSMARK Australia" initials="C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8-12-08T16:55:39.555000000" idx="1">
    <p:pos x="2778" y="477"/>
    <p:text>Update house imag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52F1-7673-408C-8A3C-8A2573B20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C823-471E-419A-8970-6907420FE02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it this slide to “gray out” any of the modules listed if your PT course will not include the modules f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howing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6EAF-0F32-4471-856F-2D3502A4EFE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94D-9D43-4A9C-9F12-03B8A37410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43F-3591-409B-A341-E0BA0CA154F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C1EC-BB66-4332-91E5-5ECBA349ED0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82A0-578E-4EB1-A67E-354B1ACF86E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E87E-09AE-4BFF-9547-5F6EA7A418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0CFE-01AC-4E07-B419-A722CD6C71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DEFC-877A-4347-81DB-E501E2923EB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BF19-1198-4301-85F1-37C284B91B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826-0DBE-4FC8-8F1B-AE732EB1B61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E66-F66B-42BF-8AB2-069B75DC726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2344-E854-4FD0-864B-2908DF3BDF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B375-3933-4172-8705-4DB317274A5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6C4F-462E-4C38-86E6-E832AD1341F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E47-E1B5-442E-9E4B-4396C623311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3194-D1D8-4418-94B4-63DE10065B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FA39-B90D-4466-9511-ACE18B6C54F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C738-E7F3-4D6B-B608-CAD0A7C8AD7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AB36-A651-4888-94D6-D237974B5A9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C2E3-1337-41DA-8D2B-7807E607D5C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137F-2078-4C92-A7E4-6532E0135C1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not visit the web site now. Participants will try the tools later in module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71D1-4862-43C0-829F-67BB1D72E7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156C-0EF6-4828-AC0F-1C2630037C7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2647-AE2C-4BF0-856B-A0AC8B3B5F7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E8CD-6C31-41AB-817B-64C00AFDA6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323-8C94-44F8-971B-FE091120E7F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link on the word “demo” to demonstrate the features of the tool before teachers open the Web site and try it out themselv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53C-7D6A-4330-83EA-7F4A42E35BB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6E30-8E31-40D8-A73D-4483576259D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5574-FAC6-434F-9A0D-E26CB32B1F2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25F6-81F3-4505-A002-A4753E27AB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AC96-7162-409D-96B0-5CF3E8C34A8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CA37-44E2-40E5-A99A-560FE8242C2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90E-D73F-4721-95A7-010DDD6A81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8E50-0333-4656-AA75-FA63E45F14F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FDC-8740-4B4A-8866-A648D0C55B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27C7-5F65-4C3E-BB68-6296142AD5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819F-EDE1-48FE-B0B7-1B1E03568D4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it this slide to “gray out” Module 5 if your PT course will not include Module 5 f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Visual Ra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DCE5-E8EF-4B0A-B85C-C82E46D33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CBAC-670B-4A26-AAEE-C90F0F278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7E37-0C95-41F3-AEF5-E4207904F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7E11-FE29-4C6A-84B5-1F8A9FA0E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82AF-26BC-4F2D-8C08-7471E14E0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AE60-2FCC-45F0-B5BF-BB7F7A1B2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C64D-8348-499A-A8D7-8FCECBE62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91A5-4BDF-4709-AC25-8F47A683E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5C76-4802-4310-B88A-EA2F30A89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41E3-A74B-4468-9FDD-91FCBDA4F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EDB0-DA61-41B8-9019-EE7349ABE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6B22-87CA-41CC-BB9E-C9BA18419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53A6-3870-4E2B-AA3C-8AD5A04920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" TargetMode="External"/><Relationship Id="rId2" Type="http://schemas.openxmlformats.org/officeDocument/2006/relationships/hyperlink" Target="http://www.intel.com/education/a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9B2D-5DB4-4922-B3C5-2560E2BEB47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4440" y="425160"/>
            <a:ext cx="8237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Conten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continued)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12840" y="1074600"/>
          <a:ext cx="8237520" cy="4842000"/>
        </p:xfrm>
        <a:graphic>
          <a:graphicData uri="http://schemas.openxmlformats.org/drawingml/2006/table">
            <a:tbl>
              <a:tblPr/>
              <a:tblGrid>
                <a:gridCol w="1865160"/>
                <a:gridCol w="6372360"/>
              </a:tblGrid>
              <a:tr h="248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3F13-FDC5-485D-BB7E-28AA51D477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7D6C-DBB4-4391-90EB-CA26E187023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406080"/>
            <a:ext cx="823752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0040" y="1428480"/>
            <a:ext cx="43113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goals of the 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each Thinking with Technology course and your expec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essential 21st century skills necessary for your students’ fut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yse different models of thi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“Teaching and Learning Taxonomy" for your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positive and negative influences that can affect thinking—from the perspective of a 21st century world citize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76400"/>
            <a:ext cx="4138560" cy="446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7F4A-C3B3-4B32-969B-8852383D8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F19-D4A3-4298-9412-E04066BDC92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Yourself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 Module 1.01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7640" y="1634760"/>
            <a:ext cx="464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Your na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Year level and subject you tea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76960" y="2048040"/>
            <a:ext cx="28591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4CD3-5BED-4FE5-BB9F-14DDDDD7E2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D447-5572-4673-BB31-5B05C164F7C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82280"/>
            <a:ext cx="85230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Intel Education Web Site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.0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sit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a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51"/>
              </a:spcBef>
              <a:buNone/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Designing Effective Projec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echnology Litera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Educatio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Help Gui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A62E-3439-4D37-B710-D2833E3844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A89B-E662-4EBB-819C-E45803ABAD2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5760" y="2012760"/>
            <a:ext cx="5548320" cy="37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9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ablish criteria to evaluate and prioritize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issues from multiple perspectives and make decisions by seeking consensus and negotiating new op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aborate with peers and community memb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5" name="Picture 5" descr="VR"/>
          <p:cNvPicPr/>
          <p:nvPr/>
        </p:nvPicPr>
        <p:blipFill>
          <a:blip r:embed="rId1"/>
          <a:stretch/>
        </p:blipFill>
        <p:spPr>
          <a:xfrm>
            <a:off x="6438960" y="2087640"/>
            <a:ext cx="2008080" cy="3352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00FF-5993-458C-B4DB-7970DE675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513-9825-489A-A82A-83CBB187223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4200" y="15364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the home page and notice se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iscuss the use of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n the Impact of Inventions project idea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the 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ank the list of inven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ompare lis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7107-21D9-4767-8A26-15921BF91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A1F2-0562-441E-AE8E-D3A2FB967EF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17240" y="1617840"/>
            <a:ext cx="4087800" cy="39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complex problems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 systems that involve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use-and-effect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, represent, and defend interpretations of problems or systems that involve cause and eff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mathematical reasoning and understanding across the curriculum through the use of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gic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ritical thinking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Visual representation of direct and inverse relationship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2" name="Picture 5" descr="SR"/>
          <p:cNvPicPr/>
          <p:nvPr/>
        </p:nvPicPr>
        <p:blipFill>
          <a:blip r:embed="rId1"/>
          <a:stretch/>
        </p:blipFill>
        <p:spPr>
          <a:xfrm>
            <a:off x="4656240" y="1808280"/>
            <a:ext cx="4111560" cy="3289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1AE3-2C1C-435E-95AD-BAA83C213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D88B-0867-4A23-B532-BE1DF7C33BE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7440" y="1528560"/>
            <a:ext cx="8237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(continued)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1.04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overview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iscuss the use of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n the Road Safet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the 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actice reading the map, and double-click existing factors and relationship arrows to read the descrip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xperiment with the map by adding factors and relationship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4517-9D26-41AC-ABD3-A0B9DF4DDC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D12-D526-44CD-AFF2-A51F9CC62BA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37760" y="1727280"/>
            <a:ext cx="3706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effective argumentation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strategies for encouraging discussion as students make claims, support claims with evidence, debate differences, and reach conclus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yse and evaluate criteria for their decis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365360" y="313380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andard vers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407840" y="57135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mplified vers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9" descr="SE-standard"/>
          <p:cNvPicPr/>
          <p:nvPr/>
        </p:nvPicPr>
        <p:blipFill>
          <a:blip r:embed="rId1"/>
          <a:stretch/>
        </p:blipFill>
        <p:spPr>
          <a:xfrm>
            <a:off x="4346640" y="1562040"/>
            <a:ext cx="4155840" cy="157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E-simplified"/>
          <p:cNvPicPr/>
          <p:nvPr/>
        </p:nvPicPr>
        <p:blipFill>
          <a:blip r:embed="rId2"/>
          <a:stretch/>
        </p:blipFill>
        <p:spPr>
          <a:xfrm>
            <a:off x="4375080" y="3672000"/>
            <a:ext cx="4108680" cy="2004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038A-60E9-4529-AAED-91CF2C4F3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6B09-EEDD-4387-BD8B-52BE2E47B82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742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(continued)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1.05</a:t>
            </a: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overview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the 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mentary 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the claim and evidence, and experiment with the cas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ondary 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and experiment with the case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iscuss the completed simplified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oject in the Jack and the Beanstalk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and discuss The Mysterious Malad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4AF4-B9A2-4D2A-969B-3E72B572A2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598-73F5-4B96-889C-EC82A4ED54D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Overview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ii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Goal</a:t>
            </a: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nts leave the course with a unit plan based on standards/syllabus outcomes, support materials, and implementation strategies to improve and assess students' higher order thinking with the use of free online tool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2200" y="3278160"/>
            <a:ext cx="8104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urse focuses 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internet in new and constructive ways with stud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grating unique online thinking tools that enable students to visually represent their understanding of complex and interconnected issu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2D01-9317-4B88-940B-18968A72D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AEEC-FC62-41EB-9944-138A6C66261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(Optional) Activity 2b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tting Up Online Bookmarking Account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6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79440" y="1819440"/>
            <a:ext cx="753732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cial bookmarking sites are web based methods of storing, sharing and searching internet bookmar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structions for setting up an online bookmarking account with del.icio.us are on page 1.06 of the manu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2427-818B-47DA-A1F3-B35E5E2F89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228E-85A0-4DC1-A759-E9E4BD46595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xploring 21</a:t>
            </a:r>
            <a:r>
              <a:rPr b="0" lang="en-US" sz="24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Century Skills –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7 – 1.1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60360" y="1542960"/>
            <a:ext cx="78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The 21</a:t>
            </a:r>
            <a:r>
              <a:rPr b="1" lang="en-US" sz="18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Century is Different Essential 21st century skill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(Partnership for 21st Century Skills, 200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95360" y="2465280"/>
            <a:ext cx="753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re Subjects and 21st Century The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arning and Innovation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formation, Media, and Technology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ife and Career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CCE0-DEDF-4DB2-859A-574E3B0C9C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653F-55E7-4502-96F0-DCBA0613575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99880" y="2144520"/>
            <a:ext cx="82375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Visual Ranking Tool to consider the 21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entury skills our students need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 you begin, go to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on the 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ducation website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add to Favorites or your online bookmarking site, before proceeding with the activit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ep 3:  Discuss your ranking with a partn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492960" y="3174840"/>
            <a:ext cx="255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98360" y="339480"/>
            <a:ext cx="8352000" cy="17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17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</a:t>
            </a: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Applying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Complex Thinking to Complex Skills -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1.09 – 1.10</a:t>
            </a:r>
            <a:br>
              <a:rPr sz="1600"/>
            </a:b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A9B6-07C5-485F-BDBB-CF4803FDC0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27BF-BFDF-48CC-ACAC-FA2E4D9B89B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63600" y="1430280"/>
            <a:ext cx="8237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Group Discussion –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ploring Thinking About 21</a:t>
            </a:r>
            <a:r>
              <a:rPr b="0" lang="en-US" sz="18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entury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did you discuss with your partner?</a:t>
            </a: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did your ranking differ from other teams?</a:t>
            </a: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as your highest ranked item and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492960" y="3174840"/>
            <a:ext cx="255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9560" y="244080"/>
            <a:ext cx="8380440" cy="16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17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A93A-9226-4F0A-AFBF-FC5174EF85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44AD-051B-49DE-95BF-0A608806499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094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Activity 3: Exploring 21</a:t>
            </a:r>
            <a:r>
              <a:rPr b="1" lang="en-US" sz="28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 Century Skill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2078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 (cont) 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roup Discussion – How do Thornburg’s ratings compare with yours? Are they different?  If so, why?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ix Most Wanted Workforce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ccording to David Thornburg these 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chnological Fluenc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81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unicati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74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amwork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36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dershi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34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blem Solv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3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vit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2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1788-B112-4CD8-9355-1D4DB3E9DE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F0A4-8BD1-4730-89A5-CF70A6CEC44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6240" y="1731960"/>
            <a:ext cx="851688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nking beyond level of knowledge acquisition is considered complex thinking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lex or higher order thinking includes the ability to work through new challenges with understanding and empathy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earch shows that instruction which encourages use of higher order thinking skills yields greater levels of student learning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arious models of thinking help educators and researchers to identify and categorise thinking skill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47240" y="216000"/>
            <a:ext cx="84661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17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Higher Order Thinking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11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3EA7-3F52-4399-82EB-8D49797E11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8278-8F3C-42E4-B237-9D5BBDA448A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ying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Different Models of Thinking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br>
              <a:rPr sz="26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1.12 – 1.1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5520" y="1815840"/>
            <a:ext cx="8516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search on higher order 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upport of higher order thinking skills = greater levels of learning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Many models help identify and categorize thinking skills. You will use them to create targeted higher order thinking skills for your own classroom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loom’s Taxonomy of Thinking Skill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rzano’s Dimensions of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sta and Kallick’s 16 Habits of Min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08A1-6016-4BF7-AAC6-1F7D238DA8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582E-8BF2-44D1-84D6-62AF4C84B5D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9200" y="223560"/>
            <a:ext cx="82378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ying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Different Models of Thinking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2760" y="1767960"/>
            <a:ext cx="81025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Step 1:  Understanding the Models of Thinking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1.12 – 1.13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pert Jigsaw Act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a cooperative group strategy to understand, share and consolidate ideas about the models of learning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(A large version of the Expert Jigsaw table can be downloaded from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fter the activity, participate in the whole group discussion and reflect on your learning (Step 2 – module 1.13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B83A-0560-4B2F-885A-1C17B0AAF7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A46B-CD2B-4222-8D34-3B9A226A777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r>
              <a:rPr b="1" lang="en-AU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AU" sz="2400" spc="-1" strike="noStrike">
                <a:solidFill>
                  <a:srgbClr val="0860a8"/>
                </a:solidFill>
                <a:latin typeface="Verdana"/>
              </a:rPr>
              <a:t>Step 1: Understanding the Models of Think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5680" y="1581120"/>
            <a:ext cx="824724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t a Glance: Bloom’s Taxonomy of 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Categories cover all learning behaviours from simplest to most complex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Hierarchical system where highest thinking level include all skills from lower leve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Two dimensional table includes the Knowledge Dimension and the Cognitive Process Dimens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E904-866A-4A79-96A9-ED7C10B8BD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E44F-B70B-4480-826A-96F6491803D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200"/>
            </a:b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1: Understanding Different Models of Thinking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760" y="144756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t a Glance: Marzano’s Dimensions of Learn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tegories do not build upon each other in a hierarchical fash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cognitive category is just as important as the oth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ategories are worthy of focus and inclusion within a unit of stud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9EC5-ECBC-46AB-993C-74C7DFDF52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59E-48B6-4868-BC09-1DA2D49054F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434880"/>
            <a:ext cx="82375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Overview of the Intel</a:t>
            </a:r>
            <a:r>
              <a:rPr b="1" lang="en-US" sz="20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Education Web Sit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iii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55400"/>
            <a:ext cx="82375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thinking too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online productivity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Educatio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Help Gui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7AD3-39F1-4537-A153-E78891927C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9E75-4E1E-47E7-87F3-1B293AB520D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35164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1" lang="en-AU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1: Understanding Different Models of Thinking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9440" y="1609560"/>
            <a:ext cx="83138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t a Glance: Costa and Kallick’s 16 Habits of Min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a definition of habits that are required to meet “challenging conditions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habits that help students resolve complex problems, such 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rategic reaso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sightfulne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rsevera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v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aftsmanshi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09A2-AF9F-45DD-AA0C-453B4BF215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08D7-4FDC-479C-BADC-81522F03644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1" lang="en-AU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2: Reflecting on your learning</a:t>
            </a:r>
            <a:r>
              <a:rPr b="0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AU" sz="1200" spc="-1" strike="noStrike">
                <a:solidFill>
                  <a:srgbClr val="0860a8"/>
                </a:solidFill>
                <a:latin typeface="Verdana"/>
              </a:rPr>
              <a:t>Module 1.1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2280" y="19918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Group Discussion:  Reflecting on your Learn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can cooperative learning strategies help the learning of the expert and the stude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might these models of thinking and learning support or develop your students’ higher order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links do you see between these models and the 21sts century skill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5094-1591-48DB-8246-24F3D69833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2742-8C5C-46E4-A6B3-799CD684445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Your Own Teaching and Learning Taxonomy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.19 – 1.2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6200" y="1920600"/>
            <a:ext cx="823788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ider the three models of thinking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 may also wish to review the summary of Wiggins and McTighe’s Six Facets of Understanding and an extended explanation of Bloom’s Revised Taxonomy available from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oose a visual organizer that meets your nee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one of the organizers to define and organize the thinking skills/and or habits you would like your students to develop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2F3B-0759-4332-88B1-1235D58FE1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A05-6F48-48B8-9C2B-98E53F7173F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ewing the Unit Plan Template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5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21 – 1.27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2440" y="2039760"/>
            <a:ext cx="84661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components of the Unit Plan Templa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folder for all your docu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ownload the Unit Plan Templ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 Go to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 Save this address in your “Favourites’ or online bookmarking si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 Save the Unit Plan Template into your new fol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e your Teaching and Learning Taxonomy, and save in your fol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497E-6936-4CDB-8A92-34A2A5251B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632-C66A-44C1-B146-4F6691A0555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8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Deeper Thinking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the Seeing Reason Tool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2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2236320"/>
            <a:ext cx="8237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04920" indent="-304920"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derstand the features of 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04920" indent="-304920"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a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demo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 of 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07" name="Picture 8" descr="sr-module1"/>
          <p:cNvPicPr/>
          <p:nvPr/>
        </p:nvPicPr>
        <p:blipFill>
          <a:blip r:embed="rId2"/>
          <a:stretch/>
        </p:blipFill>
        <p:spPr>
          <a:xfrm>
            <a:off x="2462040" y="3586320"/>
            <a:ext cx="4086360" cy="16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2921-FF93-402D-85A1-A805E5C29A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9EC3-FFCE-472C-8C32-59A4CF2BD99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39200" y="1603440"/>
            <a:ext cx="823788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fter viewing the demo, go to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: </a:t>
            </a:r>
            <a:r>
              <a:rPr b="0" i="1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dd to your Favorit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udent Log-In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From the perspective of a 21st century citizen, explore answers to the questio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at influences deeper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Work with a partner –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several factors and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map period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final map in your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588000" y="3048120"/>
            <a:ext cx="255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8</a:t>
            </a: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Exploring Deeper Levels of Thinking with the Seeing Reason Tool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29 – 1.3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A3F6-7CC5-4A40-B953-37C0F5D275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9C9C-F2D1-4221-BBE1-27BAFE750DF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8</a:t>
            </a: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Group Discussion – Reflecting on Map-Building -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3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7460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fter the mapping activity, discuss with the group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and your partner immediately agree on what to map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did you talk about as you created your map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viewing other teams’ thinking skills maps give you other idea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has this activity changed or increased your understanding of what leads to deeper thinking and what can hinder i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2487-A893-4C2F-BD0D-A3B853EE6E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311B-C378-4F62-940D-472019E05BB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: Thinking in the Classroom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31 – 1.3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tep 1: Taking a Look into Two Classroo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Reflect on the differences between classrooms described in two sets of vignet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tep 2: Reflecting on Your Own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Complete a survey about your classroom environment, methods of modelling and coaching and your students’ active engagement in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You will need to download ‘Taking A Look Into Two Classrooms’ and ‘Reflecting On Your Own Classroom’ – from the Extension Activities folder a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537F-A2CE-4B44-A94A-54DDFAD865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C5E-A616-4DE0-ABF5-F92BED07318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Summary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3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04720" y="1514520"/>
          <a:ext cx="8126640" cy="3290760"/>
        </p:xfrm>
        <a:graphic>
          <a:graphicData uri="http://schemas.openxmlformats.org/drawingml/2006/table">
            <a:tbl>
              <a:tblPr/>
              <a:tblGrid>
                <a:gridCol w="8126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922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essential skills needed to be successful in the future go beyond basic literacy. Students must also be able 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d critical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Write persuasive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ink and reason logical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olve complex probl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Have other such skills, such as those defined by the Partnership for 21st Century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search is clear that instruction that builds on and encourages higher order thinking skills results in greater levels of student lear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ED68-5258-42C6-B09F-B9AF299986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26F4-8B7B-4E88-8636-9066E6D2B50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br>
              <a:rPr sz="2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2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4480" y="1342800"/>
            <a:ext cx="821844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steps for project plan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standards/syllabus outcomes that target higher order thinking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ways to use a project-based approach to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influences that affect deeper thi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526B-9E39-4075-86E4-8ABAD7834E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C17B-279B-4461-A1AD-BEE8BF16F3E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406080"/>
            <a:ext cx="823752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Overview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iv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001520"/>
            <a:ext cx="823752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6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urs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rn instructional strategies for addressing and assessing thinking skills using technology to increase opportunities for effective student collaboration, student-teacher interactions,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d the inquiry proce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n instructional plan, sample projects, and assessments that integrate the use of online thinking tools, align to standards/syllabus outcomes, and support a project approach to learning and authentic inquiry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online teaching tools and their workspaces, and how to manage a classroom project using an online environ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ve prepared to effectively implement a ready-to-use project us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, Seeing Reason,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d/or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ols, which will help your students to manage, explore, and communicate their understanding of complex and interconnected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1DAC-9AE0-4447-8271-89E632DF2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ED21-B2CD-49C9-8CA4-4DB5926E5DA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081A-E4F9-4DB1-83A6-B9641FBE12F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Master Trainer Roles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te fully in the MT training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ruit Participant Teach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der and distribute curricular material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training logistics, and ensure lab and online projects are read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ain at least 10 Participant Teach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tent can be configured to feature any of the thinking tools (one, two, or three tools), which ranges from 24–40 hour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liver training within 4 months of start da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e training within 12 months of Master Trainer trai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inimum recommended schedule for the full 40-hour course is two week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st in evaluation and follow-up repor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A61E-DE1E-45C5-B4CC-B1B060533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7E6-08CE-46E0-A925-DD7419DA9B6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463320"/>
            <a:ext cx="8237520" cy="6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Role of Department of Education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hedule Master Trainer courses and communicate information about these trainings to schools and stakehold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e training logistics with Senior Trainers, the Regional Training Agency and venues/training lab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eive and approve applications for the Master Trainer courses and communicate details about preparing for the course/times and venue detail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support to Master Trainers and schools participating in the Intel® Teach Program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e with the Regional Training Agency the supply of training manuals and materials for Master Trainer and Participant Teacher cours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E159-93DB-4574-8139-E2540C030B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CB8-31C7-4DED-B0F2-1BBC9560EB1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463320"/>
            <a:ext cx="8237520" cy="6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Role of Regional Training Agency (RTA)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agement of Intel® Teach Program in Australi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ion of training schedules with Department of Educatio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ion of Master Trainer training logistics with Senior Trainer, Department of Education – including catering, training material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sion of training materials to Master Trainers for Participant Teacher training – and mailing of completion certificates to Master Trainers upon online reque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technical and general support to teachers participating in the program and using the Thinking Tools and Australian Intel® Education web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A134-7F2D-4C34-B8EB-C1F4B80ED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04E-7CC7-492D-82FE-C44DB182FDD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Building the Unit through the Module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v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136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ar format allows a choice of schedules and thinking too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 image appears on the back of each module divider to serve as a map to show you where you have been and where you are going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a6cae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cae1"/>
                </a:solidFill>
                <a:latin typeface="Verdana"/>
              </a:rPr>
              <a:t>Half-tone colo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= sections you have not yet star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a6cae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cae1"/>
                </a:solidFill>
                <a:latin typeface="Verdana"/>
              </a:rPr>
              <a:t>Whi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= module and work currently under wa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a6cae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cae1"/>
                </a:solidFill>
                <a:latin typeface="Verdana"/>
              </a:rPr>
              <a:t>Dark color with white tex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= completed sections (or optional modules not included in your cours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62560" y="733320"/>
            <a:ext cx="4681440" cy="468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2AFE-5F4C-4A85-B836-A2A7B5E90C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945-5F8A-4AE0-A37F-A3D414606C1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520560"/>
            <a:ext cx="8237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Conten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vi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5520" y="1403280"/>
          <a:ext cx="8237520" cy="4459320"/>
        </p:xfrm>
        <a:graphic>
          <a:graphicData uri="http://schemas.openxmlformats.org/drawingml/2006/table">
            <a:tbl>
              <a:tblPr/>
              <a:tblGrid>
                <a:gridCol w="1754280"/>
                <a:gridCol w="6483240"/>
              </a:tblGrid>
              <a:tr h="62856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s covered in this cours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8A26-0F19-4C0D-8297-E02C45725E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3:52Z</dcterms:modified>
  <cp:revision>94</cp:revision>
  <dc:subject/>
  <dc:title>Presentation Title Goes Here</dc:title>
</cp:coreProperties>
</file>